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8DDA-5CF2-4DAC-8293-F1AEEF7D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7F4-D814-4674-8F34-D364B9C3101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A48-3E02-4DD1-812F-02F4772B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614-299E-4FE3-AA71-A92FCFBF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0DA-C244-4B21-81A9-AAA108BF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BC6-0FBF-4980-9529-290E87EC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293-0C32-46AA-8479-2FFA114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323-12DD-4110-98D3-648628C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30D-0889-4145-920B-964219CC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2C8-B488-4C56-8FD2-73A917D4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307-6ACF-4BFF-9764-E9A48266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95F-40BE-453F-A55F-AA3F4E57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B2E-97A4-4F36-BBD1-1C0565B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FA9-6A69-4E58-8C1E-F76B585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325-C5E2-4854-A324-FE2CE207952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51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aixa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187280" y="29973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rganização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Participação na elaboração do PLHIS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Escuta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Representantes do movimento de moradia:  associações de moradia, moradores de núcleos de favela, moradores de conjuntos habitacionais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Outros segmentos: Setor imobiliário, construção civil, ambientalistas;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Aprovação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Conselho Municipal de Habitaçã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Conferencia ou Encontro Municipal (representantes de conjuntos habitacionais, movimentos de moradia, associações, núcleos de favela)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Conselho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Representantes: Governo Municipal, Movimentos de moradia, ONGs, Universidades, Sindicatos, Setor Imobiliário e da Construção Civil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Minimo: 50% sociedade civil e 30% movimento de moradia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Governo Municipal: setor de habitação, planejamento urbano e meio ambiente.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Papel: eleger prioridades, decidir investimentos (recursos do Fundo),  acompanhar a execução do PLHIS, avaliar programas e projetos, aprovar revisão do plano etc,.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Dialogar com outros Conselhos. EX: OP. Politica Urbana, Meio Ambiente.</a:t>
            </a: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Fundo  Municipal de Habit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Recursos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Federais, Governo Estadual,orçamento municipal,retorno de financiamentos (habitação, CDRU),outorga onerosa, outros,.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Utilização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 55 Roman"/>
              </a:rPr>
              <a:t>Produção de HIS, Urbanização de Favelas, Recuperação de cortiços, Regularização Fundiária, Requalificação Habitacional, Assessoria Tecnica, elaboração de projetos, aquisição de terras etc,.    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lanejamento e Gestão Regional: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-  Elaboração de diagnostico e de estratégias regionais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-  Compatibilização de planos municipai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Monitoramento e avaliação regional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Articulação com outros planos: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APPs Urbanas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Bacia Hidrográfica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LAGESAN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atrimônio Histórico;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MRR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Frutiger 55 Roman"/>
              </a:rPr>
              <a:t>Plano Diretor 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20T13:32:08Z</dcterms:modified>
  <cp:revision>11</cp:revision>
  <dc:subject/>
  <dc:title>Slide 1</dc:title>
</cp:coreProperties>
</file>